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3A5-25B9-4EA0-88CD-A471550B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F30-BA70-40E4-8D98-AC84B0E9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AD9-BA78-4CD0-9ABE-70A4036E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F70-66F9-418C-AAF6-81982A1F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073-7C9F-48A2-B760-E76847CE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6E9-03B8-4EB7-A994-17DD74DE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28A-C893-43E1-B04B-3B1F4A17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261-3CBE-40C0-ABE0-15C52D27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248-AFFC-4658-85A2-470E64F8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44E-049F-4E02-8837-8DF11A8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A32-0CB3-4241-B523-61E4CD8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54B-5E11-483E-BFCC-A43D2A0A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0E85-DF57-411A-861C-B88D39C11E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ientific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my J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hypo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the hypo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th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19112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icity is off in my 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2327400"/>
            <a:ext cx="4876920" cy="39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ther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storm that knocked the pow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mom pay the light bi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levision and computer overloaded a circ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2362320" cy="121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5105520"/>
            <a:ext cx="2743200" cy="161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943600" y="3276720"/>
            <a:ext cx="18288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e a Hypo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levision and game overloaded a circ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the Hypo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oked outside the sun was sh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opened the door to my room and saw other electrical appliances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hecked the circuit box to see if a circuit was off, and it w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1897200">
            <a:off x="6857640" y="1828440"/>
            <a:ext cx="1600200" cy="126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4952880"/>
            <a:ext cx="213336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urned the circuit on, and the electricity came on in my 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urned the television and computer on again and the electricity went off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ent turned on the circuit again. This time I only turn the television on, and the electricity stayed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I turned the television off and turned the computer on, and again the electricity stayed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n not turn the television and computer at the same time, for it will overload the circ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4191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21:05:23Z</dcterms:created>
  <dc:creator> </dc:creator>
  <dc:description/>
  <dc:language>en-US</dc:language>
  <cp:lastModifiedBy> </cp:lastModifiedBy>
  <dcterms:modified xsi:type="dcterms:W3CDTF">2010-07-27T03:25:04Z</dcterms:modified>
  <cp:revision>4</cp:revision>
  <dc:subject/>
  <dc:title>The Scientific Method</dc:title>
</cp:coreProperties>
</file>